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1130-9902-497C-9858-055684B9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AFCA-F5F0-44AE-A21B-E0EA9FD6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88D2-74DF-4ED7-B348-A3EC9D402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8FA4-3960-4BA4-968A-B6DBD0385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30AD-07BA-481F-BBB0-0B6F2230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8F9C-3A46-43E3-9EF3-55521896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EF30-E1B9-4FF6-A16A-E0A37725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8739-0C6D-43DD-8917-79520979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ECBF-2A2D-435D-A4F5-C738315F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67F4-A588-4CFE-9446-D06A8136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1761-C80E-48B6-A18C-85754D35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02A6-6D2A-47DA-AFA0-2A8BB324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BK REVIEW - August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6FCC-A56F-4424-B129-5B07EDEE8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curity Architecture and Model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07732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ote:  these are slides that were part of a CISSP prep course that I partly developed and taught while I was with Ernst and You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hile these slides are date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August 1999 -  the core information is still releva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ntact me w/ any questions or comment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en Rothke, CISSP  brothke@hotmail.co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rm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D Trusted Computer System Evaluation Criteria (TCSEC) - orange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mware - software permanently stored in hardware device (ROM, read only memor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al Proof - mathematical argu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cker/Crack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tice - partially ordered set where every pair has greatest lower bound and least upper b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rm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ciple of Least Privilege - every entity granted least privileges necessary to perform assigned ta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 bomb - an unauthorized action triggered by a system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licious logic - evil hardware,software, or firmware included by malcontents for malcon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ory bounds - the limits in a range of storage addresses for a protected memory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ggy Back - unauthorized system via another’s authorized access (shoulder surfing is simil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ileged Instructions - set of instructions generally executable only when system is operating in executive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ileged property - a process afforded extra privileges, often used in the context of being able to override the Bell-LaPadula *-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RMS to Rememb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 Monitor - a security control which controls subjects’ access to resources - an example is the security kernel for a given hardware 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- anything used while a system is functioning (eg CPU time, memory, disk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encapsulation - property which states resources cannot be directly accessed by subjects because subject access must be controlled by the reference moni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rminology, cont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Kernel - hardware/software/firmware elements of the Trusted Computing Base - security kernel implements the reference monitor concept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sted Computing Base - from the TCSEC, the portion of a computer system which contains all elements of the system responsible for supporting the security policy and supporting the isolation of objects on which the protection is based -follows the reference monitor con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uation Guides other than the Orange Book (TC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SEC - Information Technology Security Evaluation Criteria (Europe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TCPEC - Canadian Trusted Computer Product Evaluation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s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llows from TC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ystem that can be expected to meet users’ requirements for reliability, security, effectiveness due to having undergone testing and valid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 Assu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rust that can be placed in a system, and the trusted ways the system can be proven to have been developed, tested, maintained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CB Divisions (from TCSEC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- Minimal pro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- Discretionary Pro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1 cooperative users who can protect their own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2 more granular DAC, has individual accoun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- Mandatory Pro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1 Labeled Security Pro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2 Structured Pro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3 Security Dom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- Verified Pro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1 Verified 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us - program that can infect other 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m - program that propagates but doesn’t necessarily modify other 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teria or rabbit - programs that replicate themselves to overwhelm system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Doors - trap doors - allow unauthorized access to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ojan horse - malicious program masquerading as a benign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des of Opera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 High Mode - All users of a system have clearance and approval to view info on the system, but not necessarily need to know for all info (typically militar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tmented (partitioned) mode - each user with access meets security criteria, some 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Level Secure mode (MLS) - Not all personnel have approval or need to know for all info 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ad Your Blue Book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i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ermi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 Evaluation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TF 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 Three Tenets of Computer Securit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uthorized users cannot acces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uthorized users cannot manipulate/destro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uthorized users cannot make system resources unavailable to legitimate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curity Model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ll-LaPad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b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k &amp; Wil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atri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ll-LaPadul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al description of allowable paths of information flow in a secu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security requirements for systems handling data at different sensitivity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-property - prevents write-down, by preventing subjects with access to high level data from writing the information to objects of lower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ll-LaPadul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 defines secure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between subjects, objects in accordance with specific security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 central to TCSEC (TCSEC is an implementation of the Bell-LaPadula mode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ll-LaPadula model only applies to secrecy of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paths that could lead to inappropriate disclos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xt model covers more . .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iba Integrity Mode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ba model covers integrity levels, which are analagous to sensitivity levels in Bell-LaPad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levels cover inappropriate modification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vents unauthorized users from making modifications (1st goal of integr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Up, Write Down model - Subjects cannot read objects of lesser integrity, subjects cannot write to objects of higher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ark &amp; Wilson Mode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grity Model, like Bib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all 3 integrity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unauthorized users from making mod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internal and external consis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authorized users from making improper mod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- cannot be Tampered with while being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 - all changes must be Lo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- Integrity of data is Consis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ark &amp; Wilson Mode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s “Well Formed Transaction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 step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 exactly the steps li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e the individuals who perform the ste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s for separation of du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ther Model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interference model - Covers ways to prevent subjects operating in one domain from affecting each other in violation of security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machine model - abstract mathematical model consisting of state variables and transi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re Model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atrix model - a state machine model for a discretionary access control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flow model - simplifies analysis of covert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ertification &amp; Accredita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 and judgements to determine the suitability of a system to operate in a target operational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rtification considers system in operational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reditation is the official management decision to operate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 - prevention of unauthorized use or misuse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L - Access control lis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Mode - an operation on an object recognized by the security mechanisms - think read, write or execute actions on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ountability- actions can be correlated to an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reditation - approval to operate in a given capacity in a given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attack - an attack exploiting the time lapse between an attack action and a system re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TF updated 1997,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at IP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goal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Authentication Header (A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ing Security Payload (ES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re vehicles for access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 management via ISAK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etwork/Host Security Concep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Awareness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RT/CI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of omission vs. co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l-up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vs. network security contr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ap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 Toler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MPES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shielding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ly somewhat obso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 “accreditation” - i.e. acceptance of ri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rm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 trail - records that document actions on or against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unds Checking - within a program, the process of checking for references outside of declared limits.  When bounds checking is not employed, attacks such as buffer overflows are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tmentalization - storing sensitive data in isolated block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re Term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 Control - management and control of changes to a system’s hardware, firmware, software, and docu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nement - Ensuring data cannot be abused when a process is executing a borrowed program and has some access to tha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mportant Ter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 Property (Bell-LaPadula), also known as confinement property -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vents subjects from writing dow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 dominated security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mination - comingling of data of varying classificatio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ness Proof - mathematical proof of consistency between a specification and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rm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ntermeasure - anything that neutralizes vulne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t Channel - A communication channel that allows cooperating processes to transfer information in a way that violates a system’s security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t storage channel involves memory shared by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t timing channel involves modulation of system resource usage (like CPU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rms, cont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iticality - AF term - importance of system to 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ycle - as in overwriting - one cycle consists of writing a zero, then a 1 in every possible 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ntamination - see Chinese espionage - deliberate or accidental change in the integrit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eard this one yet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retionary Access Control - an entity with access privileges can pass those privileges on to other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datory Access control - requires that access control policy decisions are beyond the control of the individual owner of an object (think military security classif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7T13:11:32Z</dcterms:created>
  <dc:creator>brothke@hotmail.com</dc:creator>
  <dc:description/>
  <dc:language>en-US</dc:language>
  <cp:lastModifiedBy>BRothke</cp:lastModifiedBy>
  <dcterms:modified xsi:type="dcterms:W3CDTF">2003-06-12T14:50:57Z</dcterms:modified>
  <cp:revision>13</cp:revision>
  <dc:subject>CISSP security architecture</dc:subject>
  <dc:title>CISSP security architecture.ppt</dc:title>
</cp:coreProperties>
</file>